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F087-684E-4FAD-89DE-6F088BCC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422-4241-4C7D-92AC-34715A32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3172-2C85-40B6-956E-48B148D8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7729-334B-4206-9326-AE7884FC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8E620-FEBE-454F-9745-203AF1E9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2484D-84AA-4AE2-80CE-635E210B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DCFC3-2AE2-426F-A8CE-87B0D0FA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013F4-C0DE-4C69-BC40-C50E1BFC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6B78C-05AD-467F-B8A0-92166F0C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D5840-CBE6-4822-9E2A-C702AED6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4EF32-94F8-4522-AE00-CEB6AFA0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DBF2-3C6C-4863-A886-F9A92C77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4DABC-E96A-42C3-AE8B-3A487696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FAC83-C9B3-45C4-B8B0-D6287387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80AEF-E18C-41B1-851F-2FA6C9B9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0EB90-6FCE-4437-9FD3-94D36FEF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803AA-C473-4D15-8504-709C7583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B3E6-F922-4311-99B3-C47046DF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EA07-DDE0-4824-AFE3-6193D7B5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6381-EC6E-483C-977C-6E38669D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E044-898F-4C0C-B3BB-9E3CFE9B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C79E-63D0-4295-9BB4-217700CE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9E1-F311-40C5-A67B-4E1599F4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60BB-C103-4BF9-9133-78B42062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4C83-03C3-429D-B686-73610F19B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6391-52A2-4FA5-B778-972047A3C8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64771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ssion 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troduction and Communication Skil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samples TND"/>
          <p:cNvPicPr/>
          <p:nvPr/>
        </p:nvPicPr>
        <p:blipFill>
          <a:blip r:embed="rId1">
            <a:lum bright="6000"/>
          </a:blip>
          <a:srcRect l="52001" t="1546" r="2941" b="8564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Title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owards No Drug Abuse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852840" y="586728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municatio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nding and receiving messag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lective Listening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earing what we want to he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pen Min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illing to listen, not judge, and see other viewpoi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ffective Communicatio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peaking clearly and listening w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3:21:45Z</dcterms:created>
  <dc:creator>Alica</dc:creator>
  <dc:description/>
  <dc:language>en-US</dc:language>
  <cp:lastModifiedBy>Mcadwell</cp:lastModifiedBy>
  <dcterms:modified xsi:type="dcterms:W3CDTF">2011-01-31T23:38:30Z</dcterms:modified>
  <cp:revision>17</cp:revision>
  <dc:subject/>
  <dc:title>Project TND  (Project Towards No Drug Abuse)</dc:title>
</cp:coreProperties>
</file>